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907560" cy="67420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907560" cy="67438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72200" y="6351480"/>
            <a:ext cx="42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47E3B0CF-C836-456E-90B1-3E7D7DE9F4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53400" y="103320"/>
            <a:ext cx="2384280" cy="328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342800" y="3216240"/>
            <a:ext cx="727236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3268440" y="512640"/>
            <a:ext cx="336708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1342800" y="3215880"/>
            <a:ext cx="7273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8932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1342800" y="3211200"/>
            <a:ext cx="7273800" cy="30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960" y="16761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984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1960" y="3942360"/>
            <a:ext cx="252540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480" y="39423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480" y="1676160"/>
            <a:ext cx="382788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2360"/>
            <a:ext cx="7844040" cy="206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Arial"/>
              </a:rPr>
              <a:t>TTÜ/ITK    T.Tammet     loeng: listid                </a:t>
            </a:r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- </a:t>
            </a:r>
            <a:fld id="{544FECD6-730B-47F8-B372-A47B3856E97F}" type="slidenum">
              <a:rPr b="1" lang="en-GB" sz="14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4404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8BA702-79CF-43FB-9F3B-3A5FDCD74D2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767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-5544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762120"/>
            <a:ext cx="78487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ammeerimise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algkurs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list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302760"/>
            <a:ext cx="7767720" cy="303480"/>
            <a:chOff x="914400" y="302760"/>
            <a:chExt cx="7767720" cy="303480"/>
          </a:xfrm>
        </p:grpSpPr>
        <p:sp>
          <p:nvSpPr>
            <p:cNvPr id="9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80320" y="302760"/>
              <a:ext cx="180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2: convert list to arr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7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unlimited / limited size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762120"/>
            <a:ext cx="7848720" cy="62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lways possible to replace an array with a l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you cannot always replace a list by an arra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: arrays have a fixed length, while lists can have arbitrary, unbounded leng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from homework 2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Reading in a file, consisting of ro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ince file length initially not known, cannot allocate a right size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However, one could first bui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a list of row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, and only then convert to an arra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7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ccess speed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s have exactly one advantage, on the other han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ccessing N-th element is very fast, even in N is big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Not so for list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8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dding/deleting an element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s have yet another advantag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dding a new element is f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Deleting an existing element is fa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Not so for array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8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st vs array: a 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9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52480" y="2057400"/>
            <a:ext cx="6475680" cy="2587680"/>
            <a:chOff x="1752480" y="2057400"/>
            <a:chExt cx="6475680" cy="2587680"/>
          </a:xfrm>
        </p:grpSpPr>
        <p:sp>
          <p:nvSpPr>
            <p:cNvPr id="193" name=""/>
            <p:cNvSpPr/>
            <p:nvPr/>
          </p:nvSpPr>
          <p:spPr>
            <a:xfrm>
              <a:off x="1752480" y="2057400"/>
              <a:ext cx="6475680" cy="2587680"/>
            </a:xfrm>
            <a:prstGeom prst="roundRect">
              <a:avLst>
                <a:gd name="adj" fmla="val 60"/>
              </a:avLst>
            </a:prstGeom>
            <a:solidFill>
              <a:srgbClr val="ccffcc"/>
            </a:solidFill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480" y="2057400"/>
              <a:ext cx="64756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rray                                     Li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Unlimited size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ast access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Slow access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ow add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Fast acces/delete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terative f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find(String searchItem, Node head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// A pointer for traversing the li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;  // Start by looking at the head of the li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 != null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item.equals(searchItem) )  return tr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  // Move on to the next nod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find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98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581440" cy="1632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sert a new item into the lis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Find the place in list, keep previous node in 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Construct a new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Let the old previous node point to new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Let new node point to next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04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572000" cy="36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: insertion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2120"/>
            <a:ext cx="89154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insert(String insertItem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Node;          // A Node to contain the new i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 = new Nod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item = insertItem;  // (N.B.  newNode.next is null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head == null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if ( head.item.compareTo(insertItem) &gt;= 0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hea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runner;     // A node for traversing the li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   // points to the node preceding runn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head.next;   // look at the SECOND posi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hea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runner != null &amp;&amp; runner.item.compareTo(insertItem) &lt; 0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 = runne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Node.next = runner;     // Insert newNode after previou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evious.next = newNod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// end inser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1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bstract data types (ADT-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762120"/>
            <a:ext cx="78487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va and other programming languages give 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Primitive data types like integers, floats, et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rr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tructures or classes which can be used for lists et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what about other possible data types: stacks, queues, et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can build them oursel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We need to g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Class definitions for keeping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Methods of a class for manipulating that data (example: add a new element, delete a new element, et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f we define such a class, it is called 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bstract data ty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1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762120"/>
            <a:ext cx="784872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20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28920" y="685800"/>
            <a:ext cx="5418000" cy="553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verview of the lec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ed list: a very common recursive data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vs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s and que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tract data ty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9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762120"/>
            <a:ext cx="784872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tack consists of a sequence of items, which should be thought of piled one on top of the other like a physical stack of boxes or cafeteria trays. Only the top item on the stack is accessible at any given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operations necessar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Top element can be removed from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  <a:ea typeface="msgothic"/>
              </a:rPr>
              <a:t>po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. An item lower down on the stack can only be removed after all the items on top of it have been popped off the sta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 new item can be added to the top of the stack with an operation called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  <a:ea typeface="msgothic"/>
              </a:rPr>
              <a:t>pu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. We can make a stack of any type of items. If, for example, the items are values of type int, then the push and pop operations can be implemented as instance meth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We can check if a stack is empty: implemented as a method  </a:t>
            </a:r>
            <a:r>
              <a:rPr b="1" lang="en-GB" sz="1800" spc="-1" strike="noStrike">
                <a:solidFill>
                  <a:srgbClr val="e70000"/>
                </a:solidFill>
                <a:latin typeface="Arial"/>
                <a:ea typeface="msgothic"/>
              </a:rPr>
              <a:t>is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26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mplementation 1: StackOfInts class for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762120"/>
            <a:ext cx="87631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op; // global var holding a pointer to top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op;         // A Node to hold the new i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 = new Nod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item = N;     // Store N in the new Nod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op.next = top;   // The new Node points to the old t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newTop;        // The new item is now on t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top.item;  // The item that is being popp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 = top.next;  // The previous second item is now on t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 // check if stack is emp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nul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StackOf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31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other implementation: using arrays for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762120"/>
            <a:ext cx="891540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StackOfInts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[] items = new int[10];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 top = 0;  // The number of items currently on the stack.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void push( int N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top == items.length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[] newArray = new int[ 2*items.length 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arraycopy(items, 0, newArray, 0, items.length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 = newArra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tems[top] = N;  // Put N in next available spo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++;           // Number of items goes up by 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pop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topItem = items[top - 1]  // Top item in the stac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op--;    // Number of items on the stack goes down by 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top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top == 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36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41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71760" y="762120"/>
            <a:ext cx="5073480" cy="551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Queue implementation using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762120"/>
            <a:ext cx="91440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QueueOfInts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static class Node {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head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Node tail = null;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oid enqueue( int N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wTail = new Node(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ewTail.item = 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newTai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.next = newTai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ail = newTai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dequeue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firstItem = head.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ad = head.next;  // The previous second item is now firs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head == null) tail = null;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first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lean isEmpty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(head == nul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QueueOf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24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 few words about data types and gene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762120"/>
            <a:ext cx="7848720" cy="74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ack and queue examples were stacks and queues of integ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ould implement stack and queue also f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lo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tr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Arrays of i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Etc etc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l of these implementations would be very simi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ypically, a better idea is to implement one general stack (or queue) for all data typ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 Java, every class has class Object as a top level par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Let us make a stack and queue of elements of type Objec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However, primitive data types (ints, floats, etc) are not objec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But, we have wrapper classes for that: Integer x = new Integer(1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 1.5 contains a special "generics" mechanis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914400" y="302760"/>
            <a:ext cx="7767720" cy="303480"/>
            <a:chOff x="914400" y="302760"/>
            <a:chExt cx="7767720" cy="303480"/>
          </a:xfrm>
        </p:grpSpPr>
        <p:sp>
          <p:nvSpPr>
            <p:cNvPr id="25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680320" y="302760"/>
              <a:ext cx="180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r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blackbo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57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inary trees: recursive node counting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762120"/>
            <a:ext cx="8534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TreeNod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item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eeNode lef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eeNode righ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int countNodes( TreeNode root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oot == null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0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1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 += countNodes(root.left);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 += countNodes(root.right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coun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ountNo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62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35772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inary trees as a universal data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ary trees can be used to construct any other datatype, including lists, arrays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often it is faster and more efficient to use other datatypes directly, not through simulating them via binary tre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p and scheme: two datatypes used: binary trees (with list syntax) and array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blackboard: construct the following list as a  binary tre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    (1   2)    ()     ((e)  f)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68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fficiency of standard operations on data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762120"/>
            <a:ext cx="7848720" cy="63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sorted arra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earch is slow (every element is looked throu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sertion is slow (all elements to the right must be mov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rted arra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earch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(use binary search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sertion is slow (all elements to the right must be mov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s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earch is slow (every element is looked throu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sertion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a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(elements to the right are not mov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nary (balanced) sort tre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Search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(binary searc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Insertion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f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gothic"/>
              </a:rPr>
              <a:t> (elemetns to the right are not mov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73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data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ference to one object can be stored in an instance variable of another object. The objects are then said to be "linked.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x data structured can be built by linking objects together. An especially interesting case occurs  when an object contains a link to another object that belongs to the same class. In that case, the class is used in its own definitio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important types of data structures are built using classes of this kin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0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cursive data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762120"/>
            <a:ext cx="784872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ursive data structures (class declarations)  make it possible to create arbitrarily large data structu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An object of type Employee holds data ab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   one employe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name;          // Name of the employe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upervisor;  // The employee's supervis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  // (Other instance variables and method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// end class Employ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variable of type Employee, th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nother variable of type Employee, as well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.supervisor.supervis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mp refers  to the boss, then the value of emp.supervisor should be null to indicate the fact that the boss has no supervis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0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762120"/>
            <a:ext cx="78487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1 = new Employe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name = "John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1.supervisor=nul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2 = new Employe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name = "Chris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2.supervisor = e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3 = new Employe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name = "Pat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3.supervisor = e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mployee e4 = new Employe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name = "Ann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4.supervisor = e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12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767640" y="1103400"/>
            <a:ext cx="927000" cy="642600"/>
            <a:chOff x="6767640" y="1103400"/>
            <a:chExt cx="927000" cy="642600"/>
          </a:xfrm>
        </p:grpSpPr>
        <p:sp>
          <p:nvSpPr>
            <p:cNvPr id="115" name=""/>
            <p:cNvSpPr/>
            <p:nvPr/>
          </p:nvSpPr>
          <p:spPr>
            <a:xfrm>
              <a:off x="6767640" y="1103400"/>
              <a:ext cx="927000" cy="6397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67640" y="110340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John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715000" y="2514600"/>
            <a:ext cx="927000" cy="642600"/>
            <a:chOff x="5715000" y="2514600"/>
            <a:chExt cx="927000" cy="642600"/>
          </a:xfrm>
        </p:grpSpPr>
        <p:sp>
          <p:nvSpPr>
            <p:cNvPr id="118" name=""/>
            <p:cNvSpPr/>
            <p:nvPr/>
          </p:nvSpPr>
          <p:spPr>
            <a:xfrm>
              <a:off x="5715000" y="2514600"/>
              <a:ext cx="927000" cy="6397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5000" y="251460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Chris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772400" y="4876920"/>
            <a:ext cx="927000" cy="642600"/>
            <a:chOff x="7772400" y="4876920"/>
            <a:chExt cx="927000" cy="642600"/>
          </a:xfrm>
        </p:grpSpPr>
        <p:sp>
          <p:nvSpPr>
            <p:cNvPr id="121" name=""/>
            <p:cNvSpPr/>
            <p:nvPr/>
          </p:nvSpPr>
          <p:spPr>
            <a:xfrm>
              <a:off x="7772400" y="4876920"/>
              <a:ext cx="927000" cy="6397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2400" y="487692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Ann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3657600"/>
            <a:ext cx="927000" cy="642600"/>
            <a:chOff x="4876920" y="3657600"/>
            <a:chExt cx="927000" cy="642600"/>
          </a:xfrm>
        </p:grpSpPr>
        <p:sp>
          <p:nvSpPr>
            <p:cNvPr id="124" name=""/>
            <p:cNvSpPr/>
            <p:nvPr/>
          </p:nvSpPr>
          <p:spPr>
            <a:xfrm>
              <a:off x="4876920" y="3657600"/>
              <a:ext cx="927000" cy="639720"/>
            </a:xfrm>
            <a:prstGeom prst="roundRect">
              <a:avLst>
                <a:gd name="adj" fmla="val 24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365760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Pat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5410080" y="3119400"/>
            <a:ext cx="533520" cy="10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00800" y="1747440"/>
            <a:ext cx="685800" cy="130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7538760" y="1747440"/>
            <a:ext cx="314280" cy="366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unt steps to the top-level boss: code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784872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emp.supervisor == null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+ " is the boss!"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mployee runner;  // For "running" up the chain of comma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emp.superviso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runner.supervisor == null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emp.na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reports directly to the boss."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runner.supervisor != null 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ount++;  // Cou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unner = runner.superviso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 "There are " + 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" supervisors between " + emp.name  + " and the boss."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302760"/>
            <a:ext cx="7767720" cy="303480"/>
            <a:chOff x="914400" y="302760"/>
            <a:chExt cx="7767720" cy="303480"/>
          </a:xfrm>
        </p:grpSpPr>
        <p:sp>
          <p:nvSpPr>
            <p:cNvPr id="132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80320" y="302760"/>
              <a:ext cx="180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k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ing i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previou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de n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37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5641920" cy="45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y are linked lists so important? Arrays vs l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we in principle always use nested arrays (one array inside another?) instead of linked list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[0]=13;  a[1]=7;    a[2]=2;   a[3]=19;   a[4]=44;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43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03244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990720" y="2585880"/>
            <a:ext cx="914400" cy="10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240" y="3733920"/>
            <a:ext cx="1478520" cy="581400"/>
            <a:chOff x="228240" y="3733920"/>
            <a:chExt cx="1478520" cy="581400"/>
          </a:xfrm>
        </p:grpSpPr>
        <p:sp>
          <p:nvSpPr>
            <p:cNvPr id="148" name=""/>
            <p:cNvSpPr/>
            <p:nvPr/>
          </p:nvSpPr>
          <p:spPr>
            <a:xfrm>
              <a:off x="228600" y="3733920"/>
              <a:ext cx="1477800" cy="57924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240" y="373392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ked li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337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52480" y="3429000"/>
            <a:ext cx="6247080" cy="3011040"/>
            <a:chOff x="1752480" y="3429000"/>
            <a:chExt cx="6247080" cy="3011040"/>
          </a:xfrm>
        </p:grpSpPr>
        <p:sp>
          <p:nvSpPr>
            <p:cNvPr id="156" name=""/>
            <p:cNvSpPr/>
            <p:nvPr/>
          </p:nvSpPr>
          <p:spPr>
            <a:xfrm>
              <a:off x="1752480" y="3429000"/>
              <a:ext cx="6247080" cy="2930400"/>
            </a:xfrm>
            <a:prstGeom prst="roundRect">
              <a:avLst>
                <a:gd name="adj" fmla="val 5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52480" y="3429000"/>
              <a:ext cx="6247080" cy="30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bove: two different representations of a list of ele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13,7,2,19,44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240" y="1981080"/>
            <a:ext cx="1478520" cy="581400"/>
            <a:chOff x="228240" y="1981080"/>
            <a:chExt cx="1478520" cy="581400"/>
          </a:xfrm>
        </p:grpSpPr>
        <p:sp>
          <p:nvSpPr>
            <p:cNvPr id="159" name=""/>
            <p:cNvSpPr/>
            <p:nvPr/>
          </p:nvSpPr>
          <p:spPr>
            <a:xfrm>
              <a:off x="228600" y="1981080"/>
              <a:ext cx="1477800" cy="579600"/>
            </a:xfrm>
            <a:prstGeom prst="roundRect">
              <a:avLst>
                <a:gd name="adj" fmla="val 273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240" y="1981080"/>
              <a:ext cx="1478520" cy="5814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rr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V="1">
            <a:off x="1219320" y="1671480"/>
            <a:ext cx="533160" cy="31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-360360"/>
            <a:ext cx="7772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de example 1: convert array to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 us write this n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301320"/>
            <a:ext cx="7770960" cy="307800"/>
            <a:chOff x="914400" y="301320"/>
            <a:chExt cx="7770960" cy="307800"/>
          </a:xfrm>
        </p:grpSpPr>
        <p:sp>
          <p:nvSpPr>
            <p:cNvPr id="165" name=""/>
            <p:cNvSpPr/>
            <p:nvPr/>
          </p:nvSpPr>
          <p:spPr>
            <a:xfrm>
              <a:off x="914400" y="606600"/>
              <a:ext cx="77691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8683560" y="301320"/>
              <a:ext cx="180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08-11-24T09:43:55Z</dcterms:modified>
  <cp:revision>1</cp:revision>
  <dc:subject/>
  <dc:title> </dc:title>
</cp:coreProperties>
</file>